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1209-1000-44B1-BEBB-481E60DBC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9F12-1EC7-4CEE-869A-CFA57DBEB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5267-1EA1-42A3-A59E-0155DF40C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7AD1-7BF8-46AF-91EA-852E88A12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AE9C-B763-4708-A645-0519BD4C1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F8A7-03E8-4004-B3DF-C2E7B062C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7F17-7C5E-4BCC-9293-E1E93D975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0F89-02B7-43D9-8F3C-93F93A121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C8FF-1DE5-4427-816F-C0240662F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04FB-0321-4093-BC3A-8D78B4D2C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D07C-48FE-4429-BA4F-E81B5ED15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E6E9-9935-40B2-8810-59CDF58C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44992-519B-451B-AEE4-E27F8B1DCA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TROL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04920" y="380880"/>
            <a:ext cx="838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Manualul de Chimi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clasa a X-a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Rodica Constantinescu, Maria-Luiza Popescu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imele cercetări legate de cunoaşterea compoz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iei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etrolului românesc au fost iniţiate la sfârşitul secolului trecut de către Petru Poni (1841 - 1925) la Iaşi, care a izolat anumiţi termeni ai seriilor de hidrocarburi din pe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etrolul este un amestec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plex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de hidrocarburi gazoase şi solide, dizolvate în hidrocarburi lichide. Hidrocarburile frecvent întâlnite în compoziţia petrolului aparţin în general seriei alcanilor, cicloalcanilor (naftene) şi arenel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lchenele şi alchinele mai reactive lipsesc din petrol. Pe lângă hidrocarburile menţionate, în petrol mai apar şi compuşi organici cu oxigen, azot sau sulf, în cantităţi foarte mic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ulful trebuie îndepărtat în cursul prelucrării petrolului, deoarece prin ardere rezultă dioxid de sulf (un gaz corozi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funcţie de locul zăcământului şi de condiţiile în care acesta s-a format, în compoziţia petrolului pot predomina una sau alta dintre aceste clase de hidrocarbur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comp_i"/>
          <p:cNvPicPr/>
          <p:nvPr/>
        </p:nvPicPr>
        <p:blipFill>
          <a:blip r:embed="rId1"/>
          <a:srcRect l="0" t="9999" r="0" b="9999"/>
          <a:stretch/>
        </p:blipFill>
        <p:spPr>
          <a:xfrm>
            <a:off x="5181480" y="762120"/>
            <a:ext cx="360072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br>
              <a:rPr sz="4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etrolul est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un lichid vâscos, de culoare brună, cu fluorescenţă verde-albăstruie, cu miros spe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ensitatea petrolului este mai mică decât a apei, variind între 0,800 şi 0,930 g/c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te insolubil în apă, formând cu aceasta o emuls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rac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racarea este procesul în care au loc ruperi ale unor legături simple C-C din alcani şi cicloalcani. Cracarea poate fi termică sau catalit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ateriile prime folosite la cracarea termică sunt motorina şi păcura, iar produşii rezultaţi sunt alcani şi alchene inferioare, numite gaze de cracare, benzină de cracare şi cocs petroli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racarea catalitică foloseşte în special motorina ca materie primă. Se obţin gaze de rafinărie, benzină mai bună decât cea obţinută prin cracarea termică şi cocs petroli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Ştiaţi c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În urma prelucrării complexe a petrolului se obţin circa 300 de prod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Metanul este principalul constituent al gazelor natur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Gazele naturale, care însoţesc în general zăcămintele de petrol, sunt o sursă de materii prime pentru obţinerea de produse: îngrăşăminte, mase plastice, cauciuc cloroprenic, acetilenă, metanol, formaldehidă, solvenţi, hidrogen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7b2</cp:lastModifiedBy>
  <dcterms:modified xsi:type="dcterms:W3CDTF">2012-06-19T10:51:26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